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91F3-D3E0-414A-B898-E1062BBD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F08-A0EC-4693-9BB9-5A93000E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88F-4267-4C2F-AA39-10761D13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7DF-C5DC-4CBD-AB82-5ADAB845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62A-5838-4D01-B102-2C8BF859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329-7F3E-4D76-8E01-2879D0F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39D-08A8-4E40-9891-2B84C52D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D33-9599-4C8E-ACA5-0251CD80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484-DAFC-4048-A30C-E977CAAD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2A7-BED1-4473-992A-18F7A905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247-6582-4B7E-B458-DE80575A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5D1-ED8D-4405-AD66-F057D613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3476-6A6E-4427-B44A-845746420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066680"/>
            <a:ext cx="1524240" cy="2327040"/>
            <a:chOff x="609480" y="1066680"/>
            <a:chExt cx="1524240" cy="2327040"/>
          </a:xfrm>
        </p:grpSpPr>
        <p:sp>
          <p:nvSpPr>
            <p:cNvPr id="42" name=""/>
            <p:cNvSpPr/>
            <p:nvPr/>
          </p:nvSpPr>
          <p:spPr>
            <a:xfrm>
              <a:off x="609480" y="1066680"/>
              <a:ext cx="1524240" cy="2327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14479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2057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24382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480" y="27432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30481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9480" y="17524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62120" y="609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52680" y="1066680"/>
            <a:ext cx="1524240" cy="2166480"/>
            <a:chOff x="3352680" y="1066680"/>
            <a:chExt cx="1524240" cy="2166480"/>
          </a:xfrm>
        </p:grpSpPr>
        <p:sp>
          <p:nvSpPr>
            <p:cNvPr id="51" name=""/>
            <p:cNvSpPr/>
            <p:nvPr/>
          </p:nvSpPr>
          <p:spPr>
            <a:xfrm>
              <a:off x="3352680" y="1066680"/>
              <a:ext cx="1524240" cy="2166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elnet, SMTP, (T)FTP, REXEC, LPR/LPD, XWIndows, DNS, NFS, SN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CP, 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P, ICMP, ARP, RA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52680" y="24382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52680" y="27432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52680" y="30481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581280" y="609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CP/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7339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809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rameaufbau (Ausga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2280" y="4267080"/>
            <a:ext cx="2819520" cy="2133720"/>
            <a:chOff x="152280" y="4267080"/>
            <a:chExt cx="2819520" cy="2133720"/>
          </a:xfrm>
        </p:grpSpPr>
        <p:sp>
          <p:nvSpPr>
            <p:cNvPr id="59" name=""/>
            <p:cNvSpPr/>
            <p:nvPr/>
          </p:nvSpPr>
          <p:spPr>
            <a:xfrm>
              <a:off x="1676520" y="4267080"/>
              <a:ext cx="685800" cy="276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95280" y="4724280"/>
              <a:ext cx="1067040" cy="276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ppl    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66680" y="5181480"/>
              <a:ext cx="1295640" cy="276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CP        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480" y="5638680"/>
              <a:ext cx="1752840" cy="276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P                      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280" y="6095880"/>
              <a:ext cx="2819520" cy="276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H                                Data          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5248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52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9072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6232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733920" y="38862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rameaufbau (Einga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4343400"/>
            <a:ext cx="609840" cy="276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4343400"/>
            <a:ext cx="609840" cy="276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343400"/>
            <a:ext cx="609840" cy="276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257800"/>
            <a:ext cx="609840" cy="276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5257800"/>
            <a:ext cx="609480" cy="276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6095880"/>
            <a:ext cx="609480" cy="276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6095880"/>
            <a:ext cx="609480" cy="276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6095880"/>
            <a:ext cx="685800" cy="276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4267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38098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7162920"/>
            <a:ext cx="3200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952880" y="6400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952880" y="640044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581280" y="6400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191120" y="556236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952880" y="556236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657600" y="46479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91120" y="4647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943600" y="4647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6T11:31:32Z</dcterms:created>
  <dc:creator>Daniela Wittkop</dc:creator>
  <dc:description/>
  <dc:language>en-US</dc:language>
  <cp:lastModifiedBy>Daniela Wittkop</cp:lastModifiedBy>
  <dcterms:modified xsi:type="dcterms:W3CDTF">1999-11-29T06:54:14Z</dcterms:modified>
  <cp:revision>2</cp:revision>
  <dc:subject/>
  <dc:title>Kein Folientitel</dc:title>
</cp:coreProperties>
</file>