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3A9-CD9E-4D5A-A48F-C40AC317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3A1-25FE-4EE6-A6AB-EC13FD9C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D8D-760B-43C6-AC7E-EBA22C41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616-1F13-4056-88F7-E51F90B8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C0A-0D45-4B4C-AC7A-182A3ACD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F6C-15B5-440C-8330-7DA2A666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9BE-AC2A-4BC9-AACB-6A65F4B2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19E-54AE-4BCB-A4E6-3A3F75FB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387-F893-4F2A-8AFD-081B50CF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6A2-B72E-4C11-9077-1C08706E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CFC-6B58-443B-B696-C1FE7110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DF9-AAED-453D-A486-1BC41548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9D0C-6276-4224-907E-9B03351EB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228600"/>
            <a:ext cx="7085880" cy="4647600"/>
            <a:chOff x="685800" y="228600"/>
            <a:chExt cx="7085880" cy="4647600"/>
          </a:xfrm>
        </p:grpSpPr>
        <p:grpSp>
          <p:nvGrpSpPr>
            <p:cNvPr id="42" name=""/>
            <p:cNvGrpSpPr/>
            <p:nvPr/>
          </p:nvGrpSpPr>
          <p:grpSpPr>
            <a:xfrm>
              <a:off x="1807920" y="228600"/>
              <a:ext cx="5963760" cy="4647600"/>
              <a:chOff x="1807920" y="228600"/>
              <a:chExt cx="5963760" cy="46476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1807920" y="228600"/>
                <a:ext cx="5963760" cy="4647600"/>
                <a:chOff x="1807920" y="228600"/>
                <a:chExt cx="5963760" cy="464760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1807920" y="228600"/>
                  <a:ext cx="5963760" cy="4647600"/>
                  <a:chOff x="1807920" y="228600"/>
                  <a:chExt cx="5963760" cy="4647600"/>
                </a:xfrm>
              </p:grpSpPr>
              <p:grpSp>
                <p:nvGrpSpPr>
                  <p:cNvPr id="45" name=""/>
                  <p:cNvGrpSpPr/>
                  <p:nvPr/>
                </p:nvGrpSpPr>
                <p:grpSpPr>
                  <a:xfrm>
                    <a:off x="2580120" y="228600"/>
                    <a:ext cx="5191560" cy="4647600"/>
                    <a:chOff x="2580120" y="228600"/>
                    <a:chExt cx="5191560" cy="4647600"/>
                  </a:xfrm>
                </p:grpSpPr>
                <p:grpSp>
                  <p:nvGrpSpPr>
                    <p:cNvPr id="46" name=""/>
                    <p:cNvGrpSpPr/>
                    <p:nvPr/>
                  </p:nvGrpSpPr>
                  <p:grpSpPr>
                    <a:xfrm>
                      <a:off x="2580120" y="228600"/>
                      <a:ext cx="5191560" cy="4647600"/>
                      <a:chOff x="2580120" y="228600"/>
                      <a:chExt cx="5191560" cy="4647600"/>
                    </a:xfrm>
                  </p:grpSpPr>
                  <p:grpSp>
                    <p:nvGrpSpPr>
                      <p:cNvPr id="47" name=""/>
                      <p:cNvGrpSpPr/>
                      <p:nvPr/>
                    </p:nvGrpSpPr>
                    <p:grpSpPr>
                      <a:xfrm>
                        <a:off x="2580120" y="228600"/>
                        <a:ext cx="5191560" cy="4647600"/>
                        <a:chOff x="2580120" y="228600"/>
                        <a:chExt cx="5191560" cy="4647600"/>
                      </a:xfrm>
                    </p:grpSpPr>
                    <p:grpSp>
                      <p:nvGrpSpPr>
                        <p:cNvPr id="48" name=""/>
                        <p:cNvGrpSpPr/>
                        <p:nvPr/>
                      </p:nvGrpSpPr>
                      <p:grpSpPr>
                        <a:xfrm>
                          <a:off x="2580120" y="439560"/>
                          <a:ext cx="5191560" cy="4436640"/>
                          <a:chOff x="2580120" y="439560"/>
                          <a:chExt cx="5191560" cy="4436640"/>
                        </a:xfrm>
                      </p:grpSpPr>
                      <p:grpSp>
                        <p:nvGrpSpPr>
                          <p:cNvPr id="49" name=""/>
                          <p:cNvGrpSpPr/>
                          <p:nvPr/>
                        </p:nvGrpSpPr>
                        <p:grpSpPr>
                          <a:xfrm>
                            <a:off x="2580120" y="439560"/>
                            <a:ext cx="1402920" cy="3943440"/>
                            <a:chOff x="2580120" y="439560"/>
                            <a:chExt cx="1402920" cy="3943440"/>
                          </a:xfrm>
                        </p:grpSpPr>
                        <p:sp>
                          <p:nvSpPr>
                            <p:cNvPr id="50" name=""/>
                            <p:cNvSpPr/>
                            <p:nvPr/>
                          </p:nvSpPr>
                          <p:spPr>
                            <a:xfrm>
                              <a:off x="2580120" y="3256560"/>
                              <a:ext cx="1402920" cy="563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" name=""/>
                            <p:cNvSpPr/>
                            <p:nvPr/>
                          </p:nvSpPr>
                          <p:spPr>
                            <a:xfrm>
                              <a:off x="2580120" y="439560"/>
                              <a:ext cx="1402920" cy="563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" name=""/>
                            <p:cNvSpPr/>
                            <p:nvPr/>
                          </p:nvSpPr>
                          <p:spPr>
                            <a:xfrm>
                              <a:off x="2580120" y="2129760"/>
                              <a:ext cx="1402920" cy="563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" name=""/>
                            <p:cNvSpPr/>
                            <p:nvPr/>
                          </p:nvSpPr>
                          <p:spPr>
                            <a:xfrm>
                              <a:off x="2580120" y="1566360"/>
                              <a:ext cx="1402920" cy="563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" name=""/>
                            <p:cNvSpPr/>
                            <p:nvPr/>
                          </p:nvSpPr>
                          <p:spPr>
                            <a:xfrm>
                              <a:off x="2580120" y="1002600"/>
                              <a:ext cx="1402920" cy="5634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" name=""/>
                            <p:cNvSpPr/>
                            <p:nvPr/>
                          </p:nvSpPr>
                          <p:spPr>
                            <a:xfrm>
                              <a:off x="2580120" y="2692800"/>
                              <a:ext cx="1402920" cy="5634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" name=""/>
                            <p:cNvSpPr/>
                            <p:nvPr/>
                          </p:nvSpPr>
                          <p:spPr>
                            <a:xfrm>
                              <a:off x="2580120" y="3819960"/>
                              <a:ext cx="1402920" cy="563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" name=""/>
                          <p:cNvGrpSpPr/>
                          <p:nvPr/>
                        </p:nvGrpSpPr>
                        <p:grpSpPr>
                          <a:xfrm>
                            <a:off x="6368400" y="439560"/>
                            <a:ext cx="1402920" cy="3943440"/>
                            <a:chOff x="6368400" y="439560"/>
                            <a:chExt cx="1402920" cy="3943440"/>
                          </a:xfrm>
                        </p:grpSpPr>
                        <p:sp>
                          <p:nvSpPr>
                            <p:cNvPr id="58" name=""/>
                            <p:cNvSpPr/>
                            <p:nvPr/>
                          </p:nvSpPr>
                          <p:spPr>
                            <a:xfrm>
                              <a:off x="6368400" y="3256560"/>
                              <a:ext cx="1402920" cy="563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" name=""/>
                            <p:cNvSpPr/>
                            <p:nvPr/>
                          </p:nvSpPr>
                          <p:spPr>
                            <a:xfrm>
                              <a:off x="6368400" y="439560"/>
                              <a:ext cx="1402920" cy="563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" name=""/>
                            <p:cNvSpPr/>
                            <p:nvPr/>
                          </p:nvSpPr>
                          <p:spPr>
                            <a:xfrm>
                              <a:off x="6368400" y="2129760"/>
                              <a:ext cx="1402920" cy="563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" name=""/>
                            <p:cNvSpPr/>
                            <p:nvPr/>
                          </p:nvSpPr>
                          <p:spPr>
                            <a:xfrm>
                              <a:off x="6368400" y="1566360"/>
                              <a:ext cx="1402920" cy="563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" name=""/>
                            <p:cNvSpPr/>
                            <p:nvPr/>
                          </p:nvSpPr>
                          <p:spPr>
                            <a:xfrm>
                              <a:off x="6368400" y="1002600"/>
                              <a:ext cx="1402920" cy="5634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" name=""/>
                            <p:cNvSpPr/>
                            <p:nvPr/>
                          </p:nvSpPr>
                          <p:spPr>
                            <a:xfrm>
                              <a:off x="6368400" y="2692800"/>
                              <a:ext cx="1402920" cy="56340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" name=""/>
                            <p:cNvSpPr/>
                            <p:nvPr/>
                          </p:nvSpPr>
                          <p:spPr>
                            <a:xfrm>
                              <a:off x="6368400" y="3819960"/>
                              <a:ext cx="1402920" cy="563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5" name=""/>
                          <p:cNvSpPr/>
                          <p:nvPr/>
                        </p:nvSpPr>
                        <p:spPr>
                          <a:xfrm>
                            <a:off x="2580120" y="4383360"/>
                            <a:ext cx="5191560" cy="49284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>
                          <a:off x="4614480" y="228600"/>
                          <a:ext cx="1122480" cy="210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4614480" y="1778040"/>
                          <a:ext cx="1122480" cy="210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4614480" y="721440"/>
                          <a:ext cx="1122480" cy="210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>
                          <a:off x="4614480" y="1214280"/>
                          <a:ext cx="1122480" cy="210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614480" y="2341440"/>
                          <a:ext cx="1122480" cy="210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614480" y="2975040"/>
                          <a:ext cx="1122480" cy="210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4614480" y="3538440"/>
                          <a:ext cx="1122480" cy="210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614480" y="4172400"/>
                          <a:ext cx="1122480" cy="210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4053240" y="439560"/>
                        <a:ext cx="0" cy="3943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" name=""/>
                      <p:cNvSpPr/>
                      <p:nvPr/>
                    </p:nvSpPr>
                    <p:spPr>
                      <a:xfrm flipV="1">
                        <a:off x="6298200" y="439200"/>
                        <a:ext cx="0" cy="3943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175720" y="439560"/>
                        <a:ext cx="0" cy="281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175720" y="932760"/>
                        <a:ext cx="0" cy="281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5175720" y="1425600"/>
                        <a:ext cx="0" cy="352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5175720" y="1989360"/>
                        <a:ext cx="0" cy="351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5175720" y="2552760"/>
                        <a:ext cx="0" cy="42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5175720" y="3186360"/>
                        <a:ext cx="0" cy="351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5175720" y="3749760"/>
                        <a:ext cx="0" cy="42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" name=""/>
                    <p:cNvSpPr/>
                    <p:nvPr/>
                  </p:nvSpPr>
                  <p:spPr>
                    <a:xfrm flipH="1">
                      <a:off x="4053240" y="79164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flipH="1">
                      <a:off x="4053240" y="184824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 flipH="1">
                      <a:off x="4053240" y="241200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 flipH="1">
                      <a:off x="4053240" y="304560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 flipH="1">
                      <a:off x="4053240" y="360900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 flipH="1">
                      <a:off x="4053240" y="128484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5736960" y="79164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5736960" y="128484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5736960" y="184824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5736960" y="241200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5736960" y="304560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5736960" y="360900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 flipH="1">
                    <a:off x="1807920" y="2130120"/>
                    <a:ext cx="21747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368760" y="2130120"/>
                    <a:ext cx="14029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" name=""/>
                <p:cNvSpPr/>
                <p:nvPr/>
              </p:nvSpPr>
              <p:spPr>
                <a:xfrm>
                  <a:off x="2718720" y="58032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wendu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718720" y="114408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rstellu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718720" y="170748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tzu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718720" y="227088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718720" y="283428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etzwer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718720" y="339768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cheru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718720" y="3961080"/>
                  <a:ext cx="10522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it- Übertragu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508800" y="396108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hysi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508800" y="339768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ta Lin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508800" y="283428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etw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508800" y="227088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508800" y="170748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ss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508800" y="114408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resen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508800" y="580320"/>
                  <a:ext cx="1052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Ap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614480" y="228600"/>
                  <a:ext cx="112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e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614480" y="721440"/>
                  <a:ext cx="112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e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614480" y="1216080"/>
                  <a:ext cx="112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e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614480" y="1778040"/>
                  <a:ext cx="112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e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614480" y="2340000"/>
                  <a:ext cx="112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e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614480" y="2975040"/>
                  <a:ext cx="112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e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614480" y="3540240"/>
                  <a:ext cx="112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e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14480" y="4172400"/>
                  <a:ext cx="112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Arial"/>
                    </a:rPr>
                    <a:t>Vollst. Rahme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718720" y="4524840"/>
                  <a:ext cx="4842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ysikalisches Übertragungs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71000" y="44100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71000" y="100296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771000" y="156492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771000" y="213012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771000" y="269352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71000" y="325692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771000" y="382032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561440" y="44100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561440" y="100296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561440" y="156492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561440" y="213012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561440" y="269352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561440" y="325692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561440" y="3820320"/>
                  <a:ext cx="210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5526720" y="1216080"/>
                <a:ext cx="209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526720" y="1778040"/>
                <a:ext cx="209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26720" y="2340000"/>
                <a:ext cx="209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26720" y="2975040"/>
                <a:ext cx="209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26720" y="3540240"/>
                <a:ext cx="209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561440" y="441000"/>
                <a:ext cx="210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07520" y="3540240"/>
                <a:ext cx="210240" cy="215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32240" y="3540240"/>
                <a:ext cx="212040" cy="215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85800" y="1073520"/>
              <a:ext cx="1824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nwendungsorientierte Funktion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5840" y="2765160"/>
              <a:ext cx="161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ransportorientierte Funktion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05:34:28Z</dcterms:created>
  <dc:creator>Daniela Wittkop</dc:creator>
  <dc:description/>
  <dc:language>en-US</dc:language>
  <cp:lastModifiedBy>Daniela Wittkop</cp:lastModifiedBy>
  <dcterms:modified xsi:type="dcterms:W3CDTF">1999-09-20T13:04:17Z</dcterms:modified>
  <cp:revision>1</cp:revision>
  <dc:subject/>
  <dc:title>Kein Folientitel</dc:title>
</cp:coreProperties>
</file>