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72288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E79-6DF1-4306-A508-E9FB8FF3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B83-4524-44A3-B119-C018447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63C-D557-4B1B-89F9-037C68B9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FFD-44F0-467C-BC94-6C26019C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273-EB6E-4509-AFF9-1168D8BD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5E3-4440-43EB-B93E-C3D701DE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E64-A647-41CE-8411-F860A46A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A11-8AA7-4661-A664-093DFA28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68B-75CF-4355-9B34-2E1EA58C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ACC-B6D9-4294-9790-269B2F76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E53-4B92-4F12-8E6B-931207A0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09C-F4CE-40C3-8AFE-715D42EF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BE74-B0AD-4817-A16D-830C9489E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2590920"/>
            <a:ext cx="5943600" cy="2133360"/>
            <a:chOff x="533520" y="2590920"/>
            <a:chExt cx="5943600" cy="2133360"/>
          </a:xfrm>
        </p:grpSpPr>
        <p:grpSp>
          <p:nvGrpSpPr>
            <p:cNvPr id="42" name=""/>
            <p:cNvGrpSpPr/>
            <p:nvPr/>
          </p:nvGrpSpPr>
          <p:grpSpPr>
            <a:xfrm>
              <a:off x="533520" y="2590920"/>
              <a:ext cx="4114800" cy="1465200"/>
              <a:chOff x="533520" y="2590920"/>
              <a:chExt cx="4114800" cy="14652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533520" y="2590920"/>
                <a:ext cx="3200400" cy="1465200"/>
                <a:chOff x="533520" y="2590920"/>
                <a:chExt cx="3200400" cy="146520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3124440" y="3352680"/>
                  <a:ext cx="609480" cy="456840"/>
                  <a:chOff x="3124440" y="3352680"/>
                  <a:chExt cx="609480" cy="45684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3124440" y="3352680"/>
                    <a:ext cx="457200" cy="456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124440" y="3428640"/>
                    <a:ext cx="609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OS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" name=""/>
                <p:cNvGrpSpPr/>
                <p:nvPr/>
              </p:nvGrpSpPr>
              <p:grpSpPr>
                <a:xfrm>
                  <a:off x="2210040" y="3352680"/>
                  <a:ext cx="457200" cy="456840"/>
                  <a:chOff x="2210040" y="3352680"/>
                  <a:chExt cx="457200" cy="456840"/>
                </a:xfrm>
              </p:grpSpPr>
              <p:sp>
                <p:nvSpPr>
                  <p:cNvPr id="48" name=""/>
                  <p:cNvSpPr/>
                  <p:nvPr/>
                </p:nvSpPr>
                <p:spPr>
                  <a:xfrm>
                    <a:off x="2210040" y="3352680"/>
                    <a:ext cx="457200" cy="456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210040" y="3428640"/>
                    <a:ext cx="457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" name=""/>
                <p:cNvSpPr/>
                <p:nvPr/>
              </p:nvSpPr>
              <p:spPr>
                <a:xfrm>
                  <a:off x="2667240" y="3581280"/>
                  <a:ext cx="4572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 flipV="1">
                  <a:off x="1447560" y="3123720"/>
                  <a:ext cx="76212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H="1">
                  <a:off x="1447560" y="3581280"/>
                  <a:ext cx="7621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86160" y="2971800"/>
                  <a:ext cx="99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ildschir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686160" y="3809880"/>
                  <a:ext cx="99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ruc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33520" y="259092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3962520" y="3352680"/>
                <a:ext cx="685800" cy="457200"/>
                <a:chOff x="3962520" y="3352680"/>
                <a:chExt cx="685800" cy="4572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962520" y="3352680"/>
                  <a:ext cx="4572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962520" y="3429000"/>
                  <a:ext cx="685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74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3581280" y="3581280"/>
                <a:ext cx="381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419720" y="3048120"/>
              <a:ext cx="532800" cy="380520"/>
              <a:chOff x="4419720" y="3048120"/>
              <a:chExt cx="532800" cy="380520"/>
            </a:xfrm>
          </p:grpSpPr>
          <p:sp>
            <p:nvSpPr>
              <p:cNvPr id="61" name=""/>
              <p:cNvSpPr/>
              <p:nvPr/>
            </p:nvSpPr>
            <p:spPr>
              <a:xfrm flipV="1">
                <a:off x="4419720" y="312372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647600" y="31240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4647960" y="3048120"/>
                <a:ext cx="3045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438080" y="3562560"/>
              <a:ext cx="648720" cy="113040"/>
              <a:chOff x="4438080" y="3562560"/>
              <a:chExt cx="648720" cy="113040"/>
            </a:xfrm>
          </p:grpSpPr>
          <p:sp>
            <p:nvSpPr>
              <p:cNvPr id="65" name=""/>
              <p:cNvSpPr/>
              <p:nvPr/>
            </p:nvSpPr>
            <p:spPr>
              <a:xfrm flipV="1">
                <a:off x="4438080" y="3562560"/>
                <a:ext cx="4312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4656240" y="3562920"/>
                <a:ext cx="21276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656240" y="3665520"/>
                <a:ext cx="4305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404600" y="3756960"/>
              <a:ext cx="563400" cy="334800"/>
              <a:chOff x="4404600" y="3756960"/>
              <a:chExt cx="563400" cy="33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404600" y="3756960"/>
                <a:ext cx="40212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4566240" y="3913200"/>
                <a:ext cx="24012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66240" y="3935520"/>
                <a:ext cx="4017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rot="18977400">
              <a:off x="4344120" y="2819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Datex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952880" y="2743200"/>
              <a:ext cx="1295640" cy="457200"/>
              <a:chOff x="4952880" y="2743200"/>
              <a:chExt cx="1295640" cy="45720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4952880" y="2743200"/>
                <a:ext cx="609840" cy="457200"/>
                <a:chOff x="4952880" y="2743200"/>
                <a:chExt cx="609840" cy="4572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952880" y="2743200"/>
                  <a:ext cx="4572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952880" y="2819520"/>
                  <a:ext cx="60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74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638680" y="2743200"/>
                <a:ext cx="609840" cy="457200"/>
                <a:chOff x="5638680" y="2743200"/>
                <a:chExt cx="609840" cy="4572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638680" y="2743200"/>
                  <a:ext cx="4572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38680" y="2819520"/>
                  <a:ext cx="60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OS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5410080" y="29718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029200" y="4038480"/>
              <a:ext cx="609480" cy="457200"/>
              <a:chOff x="5029200" y="4038480"/>
              <a:chExt cx="609480" cy="457200"/>
            </a:xfrm>
          </p:grpSpPr>
          <p:sp>
            <p:nvSpPr>
              <p:cNvPr id="82" name=""/>
              <p:cNvSpPr/>
              <p:nvPr/>
            </p:nvSpPr>
            <p:spPr>
              <a:xfrm>
                <a:off x="5029200" y="4038480"/>
                <a:ext cx="4568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29200" y="411480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V="1">
              <a:off x="5486400" y="3962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86400" y="41911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8680" y="38098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uck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38680" y="43434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ldschi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05520" y="342900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N Verbindung z.B. über Telek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" y="2895480"/>
              <a:ext cx="38098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0" y="297180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Kreisha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57200" y="380880"/>
            <a:ext cx="4038480" cy="1981440"/>
            <a:chOff x="457200" y="380880"/>
            <a:chExt cx="4038480" cy="1981440"/>
          </a:xfrm>
        </p:grpSpPr>
        <p:grpSp>
          <p:nvGrpSpPr>
            <p:cNvPr id="92" name=""/>
            <p:cNvGrpSpPr/>
            <p:nvPr/>
          </p:nvGrpSpPr>
          <p:grpSpPr>
            <a:xfrm>
              <a:off x="457200" y="380880"/>
              <a:ext cx="3200400" cy="1465560"/>
              <a:chOff x="457200" y="380880"/>
              <a:chExt cx="3200400" cy="14655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3048120" y="1143000"/>
                <a:ext cx="609480" cy="457200"/>
                <a:chOff x="3048120" y="1143000"/>
                <a:chExt cx="609480" cy="4572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048120" y="1143000"/>
                  <a:ext cx="4572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048120" y="1219320"/>
                  <a:ext cx="609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OS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133720" y="1143000"/>
                <a:ext cx="457200" cy="457200"/>
                <a:chOff x="2133720" y="1143000"/>
                <a:chExt cx="457200" cy="4572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133720" y="1143000"/>
                  <a:ext cx="4572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133720" y="1219320"/>
                  <a:ext cx="457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2590920" y="1371600"/>
                <a:ext cx="457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1371240" y="914400"/>
                <a:ext cx="7621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371240" y="1371600"/>
                <a:ext cx="7621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9840" y="762120"/>
                <a:ext cx="99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ldschi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9840" y="1600200"/>
                <a:ext cx="99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ruck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7200" y="3808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85800" y="533520"/>
              <a:ext cx="3809880" cy="1828800"/>
              <a:chOff x="685800" y="533520"/>
              <a:chExt cx="3809880" cy="1828800"/>
            </a:xfrm>
          </p:grpSpPr>
          <p:sp>
            <p:nvSpPr>
              <p:cNvPr id="106" name=""/>
              <p:cNvSpPr/>
              <p:nvPr/>
            </p:nvSpPr>
            <p:spPr>
              <a:xfrm>
                <a:off x="685800" y="533520"/>
                <a:ext cx="380988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33360" y="609480"/>
                <a:ext cx="914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Kreishau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33520" y="4952880"/>
            <a:ext cx="5943600" cy="2438640"/>
            <a:chOff x="533520" y="4952880"/>
            <a:chExt cx="5943600" cy="2438640"/>
          </a:xfrm>
        </p:grpSpPr>
        <p:grpSp>
          <p:nvGrpSpPr>
            <p:cNvPr id="109" name=""/>
            <p:cNvGrpSpPr/>
            <p:nvPr/>
          </p:nvGrpSpPr>
          <p:grpSpPr>
            <a:xfrm>
              <a:off x="533520" y="4952880"/>
              <a:ext cx="4114800" cy="1465200"/>
              <a:chOff x="533520" y="4952880"/>
              <a:chExt cx="4114800" cy="14652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533520" y="4952880"/>
                <a:ext cx="3200400" cy="1465200"/>
                <a:chOff x="533520" y="4952880"/>
                <a:chExt cx="3200400" cy="146520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3124440" y="5714640"/>
                  <a:ext cx="609480" cy="456840"/>
                  <a:chOff x="3124440" y="5714640"/>
                  <a:chExt cx="609480" cy="4568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3124440" y="5714640"/>
                    <a:ext cx="457200" cy="456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124440" y="5790600"/>
                    <a:ext cx="609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OS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2210040" y="5714640"/>
                  <a:ext cx="457200" cy="456840"/>
                  <a:chOff x="2210040" y="5714640"/>
                  <a:chExt cx="457200" cy="4568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2210040" y="5714640"/>
                    <a:ext cx="457200" cy="456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210040" y="5790600"/>
                    <a:ext cx="457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2667240" y="5943240"/>
                  <a:ext cx="4572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flipV="1">
                  <a:off x="1447560" y="5485680"/>
                  <a:ext cx="76212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1447560" y="5943240"/>
                  <a:ext cx="7621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86160" y="5333760"/>
                  <a:ext cx="99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ildschir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86160" y="6171840"/>
                  <a:ext cx="99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ruc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33520" y="495288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3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62520" y="5714640"/>
                <a:ext cx="685800" cy="457200"/>
                <a:chOff x="3962520" y="5714640"/>
                <a:chExt cx="685800" cy="457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62520" y="5714640"/>
                  <a:ext cx="4572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62520" y="5790960"/>
                  <a:ext cx="685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74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3581280" y="5943240"/>
                <a:ext cx="381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419720" y="5410080"/>
              <a:ext cx="532800" cy="380520"/>
              <a:chOff x="4419720" y="5410080"/>
              <a:chExt cx="532800" cy="38052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4419720" y="548568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4647600" y="548604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647960" y="5410080"/>
                <a:ext cx="3045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438080" y="5924880"/>
              <a:ext cx="648720" cy="113040"/>
              <a:chOff x="4438080" y="5924880"/>
              <a:chExt cx="648720" cy="11304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4438080" y="5924880"/>
                <a:ext cx="4312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4656240" y="5925240"/>
                <a:ext cx="21276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656240" y="6027840"/>
                <a:ext cx="4305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404600" y="6119280"/>
              <a:ext cx="563400" cy="334080"/>
              <a:chOff x="4404600" y="6119280"/>
              <a:chExt cx="563400" cy="334080"/>
            </a:xfrm>
          </p:grpSpPr>
          <p:sp>
            <p:nvSpPr>
              <p:cNvPr id="136" name=""/>
              <p:cNvSpPr/>
              <p:nvPr/>
            </p:nvSpPr>
            <p:spPr>
              <a:xfrm>
                <a:off x="4404600" y="6119280"/>
                <a:ext cx="4021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566240" y="6274440"/>
                <a:ext cx="23976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66240" y="6297480"/>
                <a:ext cx="40176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18977400">
              <a:off x="4344120" y="51811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Datex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2880" y="5105520"/>
              <a:ext cx="1295640" cy="457200"/>
              <a:chOff x="4952880" y="5105520"/>
              <a:chExt cx="1295640" cy="457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4952880" y="5105520"/>
                <a:ext cx="609840" cy="457200"/>
                <a:chOff x="4952880" y="5105520"/>
                <a:chExt cx="609840" cy="457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952880" y="5105520"/>
                  <a:ext cx="4572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52880" y="5181840"/>
                  <a:ext cx="60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74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638680" y="5105520"/>
                <a:ext cx="609840" cy="457200"/>
                <a:chOff x="5638680" y="5105520"/>
                <a:chExt cx="609840" cy="4572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638680" y="5105520"/>
                  <a:ext cx="4572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638680" y="5181840"/>
                  <a:ext cx="60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OS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410080" y="533412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029200" y="6400800"/>
              <a:ext cx="609480" cy="457200"/>
              <a:chOff x="5029200" y="6400800"/>
              <a:chExt cx="609480" cy="457200"/>
            </a:xfrm>
          </p:grpSpPr>
          <p:sp>
            <p:nvSpPr>
              <p:cNvPr id="149" name=""/>
              <p:cNvSpPr/>
              <p:nvPr/>
            </p:nvSpPr>
            <p:spPr>
              <a:xfrm>
                <a:off x="5029200" y="6400800"/>
                <a:ext cx="4568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29200" y="647712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V="1">
              <a:off x="5486400" y="6324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5530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61722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uck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8680" y="670572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ldschi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05520" y="579132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N Verbindung z.B. über Telek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5257800"/>
              <a:ext cx="380988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0" y="533412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Kreisha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352680" y="6781680"/>
              <a:ext cx="685800" cy="533520"/>
              <a:chOff x="3352680" y="6781680"/>
              <a:chExt cx="685800" cy="533520"/>
            </a:xfrm>
          </p:grpSpPr>
          <p:sp>
            <p:nvSpPr>
              <p:cNvPr id="159" name=""/>
              <p:cNvSpPr/>
              <p:nvPr/>
            </p:nvSpPr>
            <p:spPr>
              <a:xfrm>
                <a:off x="3352680" y="6781680"/>
                <a:ext cx="685800" cy="533520"/>
              </a:xfrm>
              <a:custGeom>
                <a:avLst/>
                <a:gdLst>
                  <a:gd name="textAreaLeft" fmla="*/ 62640 w 685800"/>
                  <a:gd name="textAreaRight" fmla="*/ 623160 w 685800"/>
                  <a:gd name="textAreaTop" fmla="*/ 62640 h 533520"/>
                  <a:gd name="textAreaBottom" fmla="*/ 470880 h 533520"/>
                </a:gdLst>
                <a:ahLst/>
                <a:rect l="textAreaLeft" t="textAreaTop" r="textAreaRight" b="textAreaBottom"/>
                <a:pathLst>
                  <a:path w="27761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24161" y="21600"/>
                    </a:lnTo>
                    <a:arcTo wR="3600" hR="3600" stAng="10800000" swAng="5400000"/>
                    <a:lnTo>
                      <a:pt x="27761" y="3600"/>
                    </a:lnTo>
                    <a:arcTo wR="3600" hR="3600" stAng="5400000" swAng="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14960" y="6914880"/>
                <a:ext cx="56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362320" y="6781680"/>
              <a:ext cx="685800" cy="533520"/>
              <a:chOff x="2362320" y="6781680"/>
              <a:chExt cx="685800" cy="533520"/>
            </a:xfrm>
          </p:grpSpPr>
          <p:sp>
            <p:nvSpPr>
              <p:cNvPr id="162" name=""/>
              <p:cNvSpPr/>
              <p:nvPr/>
            </p:nvSpPr>
            <p:spPr>
              <a:xfrm>
                <a:off x="2362320" y="6781680"/>
                <a:ext cx="685800" cy="533520"/>
              </a:xfrm>
              <a:custGeom>
                <a:avLst/>
                <a:gdLst>
                  <a:gd name="textAreaLeft" fmla="*/ 62640 w 685800"/>
                  <a:gd name="textAreaRight" fmla="*/ 623160 w 685800"/>
                  <a:gd name="textAreaTop" fmla="*/ 62640 h 533520"/>
                  <a:gd name="textAreaBottom" fmla="*/ 470880 h 533520"/>
                </a:gdLst>
                <a:ahLst/>
                <a:rect l="textAreaLeft" t="textAreaTop" r="textAreaRight" b="textAreaBottom"/>
                <a:pathLst>
                  <a:path w="27761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24161" y="21600"/>
                    </a:lnTo>
                    <a:arcTo wR="3600" hR="3600" stAng="10800000" swAng="5400000"/>
                    <a:lnTo>
                      <a:pt x="27761" y="3600"/>
                    </a:lnTo>
                    <a:arcTo wR="3600" hR="3600" stAng="5400000" swAng="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424600" y="6914880"/>
                <a:ext cx="56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914400" y="6781680"/>
              <a:ext cx="533520" cy="533520"/>
              <a:chOff x="914400" y="6781680"/>
              <a:chExt cx="533520" cy="533520"/>
            </a:xfrm>
          </p:grpSpPr>
          <p:sp>
            <p:nvSpPr>
              <p:cNvPr id="165" name=""/>
              <p:cNvSpPr/>
              <p:nvPr/>
            </p:nvSpPr>
            <p:spPr>
              <a:xfrm>
                <a:off x="914400" y="67816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14400" y="693432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447920" y="7086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7010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52680" y="6172200"/>
              <a:ext cx="22860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809520" y="6172200"/>
              <a:ext cx="38124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800600" y="24382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.B. Stadt Ma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48006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.B. Stadt Ma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9480" y="7772400"/>
            <a:ext cx="4419720" cy="914400"/>
            <a:chOff x="609480" y="7772400"/>
            <a:chExt cx="4419720" cy="914400"/>
          </a:xfrm>
        </p:grpSpPr>
        <p:grpSp>
          <p:nvGrpSpPr>
            <p:cNvPr id="174" name=""/>
            <p:cNvGrpSpPr/>
            <p:nvPr/>
          </p:nvGrpSpPr>
          <p:grpSpPr>
            <a:xfrm>
              <a:off x="685800" y="8001000"/>
              <a:ext cx="4343400" cy="685800"/>
              <a:chOff x="685800" y="8001000"/>
              <a:chExt cx="4343400" cy="68580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1752480" y="8077320"/>
                <a:ext cx="685800" cy="457200"/>
                <a:chOff x="1752480" y="8077320"/>
                <a:chExt cx="68580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752480" y="8077320"/>
                  <a:ext cx="60984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752480" y="8153640"/>
                  <a:ext cx="685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Rou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352680" y="8077320"/>
                <a:ext cx="685800" cy="457200"/>
                <a:chOff x="3352680" y="8077320"/>
                <a:chExt cx="6858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352680" y="8077320"/>
                  <a:ext cx="60984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352680" y="8153640"/>
                  <a:ext cx="685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Rou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380680" y="8287200"/>
                <a:ext cx="918720" cy="156600"/>
                <a:chOff x="2380680" y="8287200"/>
                <a:chExt cx="918720" cy="15660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2380680" y="8287200"/>
                  <a:ext cx="60948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2690280" y="8287200"/>
                  <a:ext cx="299520" cy="15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2690280" y="8435520"/>
                  <a:ext cx="609120" cy="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962520" y="8305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71600" y="8305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685800" y="8001000"/>
                <a:ext cx="685800" cy="685800"/>
                <a:chOff x="685800" y="8001000"/>
                <a:chExt cx="685800" cy="685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85800" y="8001000"/>
                  <a:ext cx="685800" cy="6858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62120" y="8229600"/>
                  <a:ext cx="533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343400" y="8001000"/>
                <a:ext cx="685800" cy="685800"/>
                <a:chOff x="4343400" y="8001000"/>
                <a:chExt cx="685800" cy="685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343400" y="8001000"/>
                  <a:ext cx="685800" cy="6858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19720" y="8229600"/>
                  <a:ext cx="533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609480" y="77724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05:54:55Z</dcterms:created>
  <dc:creator>Daniela Wittkop</dc:creator>
  <dc:description/>
  <dc:language>en-US</dc:language>
  <cp:lastModifiedBy>Daniela Wittkop</cp:lastModifiedBy>
  <cp:lastPrinted>1999-09-10T06:46:52Z</cp:lastPrinted>
  <dcterms:modified xsi:type="dcterms:W3CDTF">1999-09-10T06:58:58Z</dcterms:modified>
  <cp:revision>1</cp:revision>
  <dc:subject/>
  <dc:title>Kein Folientitel</dc:title>
</cp:coreProperties>
</file>