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187-77CB-4F86-AECA-4C1491C1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717-0DF9-4775-A456-2A980D37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544-95B4-4390-8529-3CDD35EA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8D9-A639-4084-BBE5-D6519372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C2C-16D8-4A63-B077-9A67D62A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9E5-293A-4E67-8BDE-57961AD6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831-20BB-4EFD-A147-9419DF6A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BD8-5F57-4F8B-866C-9E348B8F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CF1-24D9-49DD-A90E-DF341AF8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6C5-9D1F-4EFE-8AA1-2D31ECEC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F1D-363A-419D-AA08-725A4D64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FF8-10B1-4A84-A432-B1122FFA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74B3-FE10-4124-904F-81CE23582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762120"/>
            <a:ext cx="685800" cy="27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294920" y="114300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120" y="1219320"/>
            <a:ext cx="381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523520" y="121932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362320" y="1219320"/>
            <a:ext cx="8380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1219320"/>
            <a:ext cx="9907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1219320"/>
            <a:ext cx="7617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11430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514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2590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2819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2895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ar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3623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90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320" y="2819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33520" y="38098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80988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15:05:12Z</dcterms:created>
  <dc:creator>Daniela Wittkop</dc:creator>
  <dc:description/>
  <dc:language>en-US</dc:language>
  <cp:lastModifiedBy>Daniela Wittkop</cp:lastModifiedBy>
  <dcterms:modified xsi:type="dcterms:W3CDTF">1999-11-29T15:11:40Z</dcterms:modified>
  <cp:revision>1</cp:revision>
  <dc:subject/>
  <dc:title>Kein Folientitel</dc:title>
</cp:coreProperties>
</file>